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5373-224B-45A8-AE0C-A2620EE12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D514-E7E2-4737-B3D0-0C68519E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F068-8A56-4D2A-8D15-92A3B4DA5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4044-76C3-4E3E-8739-6F56F584F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E6B0-2899-4495-B7CF-C7F867B1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DB20-893D-431D-A143-380707C6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9D93-1756-4F00-BC0D-08A66D95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819D-8420-4CB7-B720-413985B2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9EC4-1F10-439D-9B64-31904F04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AF33-64D7-4A7D-BC96-FDA27574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213B-D181-4473-A2D8-1BFB9AEC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279B-4FD2-446A-A65E-25B584D0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DC8A-1FBF-4B5D-BE69-FEF9A8A26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otherjones.com/images/american_map_GDP620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ataliedee.com/022606/map-key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OOLS OF GEOGRAPHY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most important tool a Geographer us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ypes of 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Maps: show elevation using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Density 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mate 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special purpose maps (there are many!) : land and resource, Vegetation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16292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3320" cy="3886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191120" y="304920"/>
            <a:ext cx="4371840" cy="3276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343400" y="3581280"/>
            <a:ext cx="36194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OTHER TOO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purpose: to find places! (absolute location and relative lo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problem with maps: distor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4191120"/>
            <a:ext cx="266688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91540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s of a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: biggest clue to maps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end or key: tells you what symbols 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ss Rose: tells us direction on a map…more specificall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: distance on a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419112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76520" y="762120"/>
            <a:ext cx="5486400" cy="52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ss R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dinal Directions: N, S, E,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mediate Directions: NW, SW, NE, 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95880" y="3886200"/>
            <a:ext cx="27432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Types of 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two types of ma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Map: shows political bound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Map: shows physical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6201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49561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13:06:25Z</dcterms:created>
  <dc:creator>tmoore</dc:creator>
  <dc:description/>
  <dc:language>en-US</dc:language>
  <cp:lastModifiedBy>tmoore</cp:lastModifiedBy>
  <dcterms:modified xsi:type="dcterms:W3CDTF">2008-09-07T21:52:15Z</dcterms:modified>
  <cp:revision>11</cp:revision>
  <dc:subject/>
  <dc:title>THE TOOLS OF GEOGRAPHY!!!</dc:title>
</cp:coreProperties>
</file>